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439-EF12-4191-89EF-A64199AC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D80-51FA-4796-8FFB-EC8C825A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FCD-A2C8-4331-9E26-DCC17130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83A-FE5E-4DB6-AA74-3BE7CACA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2AB-2552-4867-9F18-92526C69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B0D-8B24-487B-AC4F-FC4B0C58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23C-F7B0-43B2-9651-A8F8498F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6CF-099B-4AAD-89FF-73476CBC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358-6149-4C88-9485-BAB302F9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D49-5B3E-4C7D-93A7-2752D27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3C7-1B4C-46E3-AA9B-312E6E77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528-A27C-460E-8E49-E304807E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17ED-8ED8-48B1-ACC0-076AE47900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963720"/>
          <a:ext cx="8496360" cy="5805360"/>
        </p:xfrm>
        <a:graphic>
          <a:graphicData uri="http://schemas.openxmlformats.org/drawingml/2006/table">
            <a:tbl>
              <a:tblPr/>
              <a:tblGrid>
                <a:gridCol w="1224000"/>
                <a:gridCol w="3673440"/>
                <a:gridCol w="359892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а в груп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правленческая план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1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вое состояние процессов определяет клиен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и по процессам определяются стандартами и решениями руководител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- совершенствование процессов. Требуется процессное мышлени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- выполнение плана. Требуется мышление, ориентированное на результа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0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е принци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 на долгосрочный устойчивый эффек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 на быстрый эффе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оянные, постепенные улучшения, не требующие затра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кие изменения, завязаные на затрат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а - это хорошо, так как является основой для совершенствова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лем - плохо, надо наказать виновных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большинстве случаев в проблеме виновата система, построение которой зависит в первую очередь от руководител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большинстве проблем виноват исполнител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внимания уделяется устранению отклонений по показателям, чем повышение средних значен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внимания повышению средних показателе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93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уются инструменты кайдзен для анализа причин и решения проблем (Диаграмма спагетти, Парето, Ишикавы, причинно-следственной связей и пр.), инструмент командной работы стенд PDC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уются отчеты, доклады, вопросы - ответы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 лидер, не всегда начальни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 нача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ениями занимается рабочая групп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ениями занимаются отдельные личности (специалисты, консультан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влечение. Каждый имеет возможность высказывать свои иде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уждение. Не всегда тебя слушаю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а самостоятельно выявляет проблемы и ставит задачи и сроки по решению проблем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ители выявляют проблемы и ставят задачи по их устранению. Поиск причин проблем часто не проводитс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уется диалог. Цель - найти истину. Используется вопрос "5 почему?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уется монолог руководителя. Используется вопрос "5 кто?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2"/>
          <p:cNvSpPr/>
          <p:nvPr/>
        </p:nvSpPr>
        <p:spPr>
          <a:xfrm>
            <a:off x="108000" y="115920"/>
            <a:ext cx="84200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3f5d"/>
                </a:solidFill>
                <a:latin typeface="Arial Black"/>
              </a:rPr>
              <a:t>Отличия работы постоянно-действующих рабочих груп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f3f5d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3f3f5d"/>
                </a:solidFill>
                <a:latin typeface="Arial Black"/>
              </a:rPr>
              <a:t>и управленческих планё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1:58:07Z</dcterms:created>
  <dc:creator>Крупин Алексей Юрьевич</dc:creator>
  <dc:description/>
  <dc:language>en-US</dc:language>
  <cp:lastModifiedBy>Крупин Алексей Юрьевич</cp:lastModifiedBy>
  <dcterms:modified xsi:type="dcterms:W3CDTF">2012-11-29T08:35:15Z</dcterms:modified>
  <cp:revision>7</cp:revision>
  <dc:subject/>
  <dc:title>Презентация PowerPoint</dc:title>
</cp:coreProperties>
</file>